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E597-7AD9-4236-A00B-6F733F634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library.thinkquest.org/C004535/aerobic_respiratio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71F9-9ACB-48C9-B50F-5FF201E0C06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67E5-5184-4599-9E28-00BF0058402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.emc.maricopa.edu/faculty/farabee/biobk/biobookglyc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70F-8F8F-445C-8A49-A7F7475AB70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788-2DF3-4B91-ADEF-4767ADBF420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: http://primawarta.blogspot.com/2009_08_01_archive.htm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itochondrial-disorder-information.com/what_is_mitochondria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1/02/cellular-respiration-glycolysis-pyruvate-kerbs-etc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ourse1.winona.edu/kbates/Bio241/cellresp03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5E3E-7D8B-477F-9D37-5C81DC0E6BF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CBF5-6D7C-48C5-B395-ADEB766234C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cetyl CoA (2C) reacts with oxaloacetate (4C) to produce citrate (6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A is rele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F91-EA1E-401D-BC8E-071861CB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7BE-7F12-4F0B-85A5-48CFFFE9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69F-2054-41B7-8477-05B1783C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5FB-6440-4ED1-B8D6-D7B16A5E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146-398D-452D-BEA1-C81F9370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B7C-3864-4E63-AAD1-D94D0A0E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C31-957B-4AE7-8217-67E558E4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BF2-D1EA-4D3A-AA1B-DF576314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FB4-DC2A-4AB7-BBC5-8E535141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596-0E71-47B6-A806-D2567ED5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405-3F15-4916-AB26-D0C7767A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F14-36C6-42B0-939D-8A7A1986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4E99-4584-4F84-A3FE-36E75A4D6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krebs.html" TargetMode="External"/><Relationship Id="rId2" Type="http://schemas.openxmlformats.org/officeDocument/2006/relationships/hyperlink" Target="http://highered.mcgraw-hill.com/sites/0072507470/student_view0/chapter25/animation__how_the_krebs_cycle_works__quiz_1_.html" TargetMode="External"/><Relationship Id="rId3" Type="http://schemas.openxmlformats.org/officeDocument/2006/relationships/hyperlink" Target="http://highered.mcgraw-hill.com/sites/0072507470/student_view0/chapter25/animation__how_the_krebs_cycle_works__quiz_1_.html" TargetMode="External"/><Relationship Id="rId4" Type="http://schemas.openxmlformats.org/officeDocument/2006/relationships/hyperlink" Target="http://highered.mcgraw-hill.com/sites/0072507470/student_view0/chapter25/animation__how_the_krebs_cycle_works__quiz_1_.html" TargetMode="External"/><Relationship Id="rId5" Type="http://schemas.openxmlformats.org/officeDocument/2006/relationships/hyperlink" Target="http://highered.mcgraw-hill.com/sites/0072507470/student_view0/chapter25/animation__how_the_krebs_cycle_works__quiz_1_.html" TargetMode="External"/><Relationship Id="rId6" Type="http://schemas.openxmlformats.org/officeDocument/2006/relationships/hyperlink" Target="http://highered.mcgraw-hill.com/sites/0072507470/student_view0/chapter25/animation__how_the_krebs_cycle_works__quiz_1_.html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071/bio11.swf::Electron%20Transport%20System%20and%20ATP%20Synthesi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itric Acid Cycle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718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arboxylation (Reactions 3 &amp; 4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fferent reactions involve the removal of carbon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xidation (Reactions 3, 4, 6, 8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(with their associated electrons) are transferred to a coenzyme (NAD+ or F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ergy Production (Reaction 5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one of the reactions, ATP is generated by substrate-level phosphory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upled to a reaction which has a large amount of free energy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xaloacetate is regenerated in the last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6 carbons from glucose have been oxidized to C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of the energy from glucose is in the form of ATP, NADH and FADH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rebs Cycle 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acetyl CoA + 6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 + 2ADP + 2 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6 NADH + 6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88620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27040" y="1981080"/>
            <a:ext cx="628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eaction review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kreb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/highere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cgraw-h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com/sites/0072507470/student_view0/chapter25/animation__how_the_krebs_cycle_works__quiz_1_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of ET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confused about the Electron Transport Chain, this animation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071/bio11.swf::Electron%20Transport%20System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whether oxygen is presen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iration) or no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aerob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xygen is present, the pyruvate molecules are transported from the cytoplasm into the mitochondrial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087640"/>
            <a:ext cx="3809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2880" y="1981080"/>
            <a:ext cx="751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enzyme-catalyzed cha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decarboxylatio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forming CO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as a by-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oxidatio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of the 2-carbon molecule, causing a reduction of NAD</a:t>
            </a:r>
            <a:r>
              <a:rPr b="0" lang="en-CA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to NAD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attachment of coenzyme A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(a derivative of vitamin B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), forming acetyl-C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biology200.gsu.edu/houghton/2107%20'07/Figures/Chapter7/figure7.8.jpg"/>
          <p:cNvPicPr/>
          <p:nvPr/>
        </p:nvPicPr>
        <p:blipFill>
          <a:blip r:embed="rId1"/>
          <a:stretch/>
        </p:blipFill>
        <p:spPr>
          <a:xfrm>
            <a:off x="785880" y="1643040"/>
            <a:ext cx="7318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Also known as the Krebs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8 enzyme-catalyzed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in the mitochondrial matr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yclic process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xaloaceta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actant of the first reaction and product of the last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ttp://web.virginia.edu/Heidi/chapter20/Images/8883n20_05.jpg"/>
          <p:cNvPicPr/>
          <p:nvPr/>
        </p:nvPicPr>
        <p:blipFill>
          <a:blip r:embed="rId1"/>
          <a:stretch/>
        </p:blipFill>
        <p:spPr>
          <a:xfrm>
            <a:off x="128520" y="2362320"/>
            <a:ext cx="89391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5:17:26Z</dcterms:created>
  <dc:creator>rubina khan</dc:creator>
  <dc:description/>
  <dc:language>en-US</dc:language>
  <cp:lastModifiedBy>rubina khan</cp:lastModifiedBy>
  <dcterms:modified xsi:type="dcterms:W3CDTF">2012-10-19T02:49:10Z</dcterms:modified>
  <cp:revision>64</cp:revision>
  <dc:subject/>
  <dc:title>Aerobic Cellular Respiration</dc:title>
</cp:coreProperties>
</file>